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966E2-91F5-409C-A241-76105AFD0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B587-3252-451D-844E-EC2B44B97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83578-F069-4E91-AC64-65105C236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C84C4-4D8B-46F1-A5FC-3A0C9F99B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D9C31B-1E87-4D0C-9EBF-63CC28AD8E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CB2EC-9F13-4DD1-9C43-1D8AD5FE60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95C041-A648-4A5F-8B78-C9F2EFB693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CD8CC-0296-467E-BF9F-67EC504BFA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DFB738-AC66-4072-8DF5-E9D53539CD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D2768-DDA1-4886-8B98-B664A40910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733F8-601E-4E0B-AF8C-11570A36F8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28A48-EEE8-458D-873C-837B8B9BB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452ECB-CCF4-469C-A065-FF167DC67C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5C881-DCF2-44FB-9CF8-63C9C29086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3E091-DA6F-4B24-81C4-87AA4E48B9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5DC11-9501-41BE-93C7-9D21B50B91B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86A486-031F-481D-BD33-8E0848F33A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A5EB-6068-425A-AC68-E9DEC92C5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4C073-4132-4378-9A9D-F0C07C9C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C451-8B0A-4F8E-BEB4-606B0607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FBA9-AFB0-4BE1-B8C2-8916F7AD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026C-5CE9-4716-9C74-80A412466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0019-2255-4DEC-BAFC-008654313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013FF-2E81-486B-8B31-367F3CE91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BDC9-6427-4D6E-AA60-418ED142B28B}"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7"/>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4A3F-C04B-4403-8BE6-1486FC97A30D}" type="slidenum">
              <a:rPr b="0" lang="el-G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ΠΟΣΟΤΙΚΗ ΕΡΕΥΝΑ</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Δρ. Έλλη Ιωαννίδη –Καπόλου</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Κοινωνιολόγος- ερευνήτρι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r>
              <a:rPr b="0" lang="en-GB" sz="4400" spc="-1" strike="noStrike">
                <a:solidFill>
                  <a:srgbClr val="ffffff"/>
                </a:solidFill>
                <a:latin typeface="Tahoma"/>
              </a:rPr>
              <a:t> </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Για να οδηγηθεί κανείς σε έγκυρα αποτελέσματα που σχετίζονται με το θέμα που διερευνά πρέπει να συμπεριλάβει στο ερωτηματολόγιο τις κατάλληλες ερωτήσεις οι οποίες :</a:t>
            </a: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Πρέπει να σχετίζονται με τις υποθέσεις της έρευνα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endParaRPr b="0" lang="en-US" sz="32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Να περιλαμβάνουν τα απαραίτητα δημογραφικά χαρακτηριστικά του δείγματος ώστε στη συνέχεια μέσα από τις συσχετίσεις των μεταβλητών να είναι δυνατή η περιγραφή συγκεκριμένων ομάδων που αναδύονται μέσα από την έρευνα (για παράδειγμα, το φύλο, την ηλικία, το μορφωτικό επίπεδο, οικονομική κατάσταση, μερικές φορές θρησκεία, τόπο κατοικίας, τόπο γέννησης κλ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ΣΧΕΔΙΑΣΜ</a:t>
            </a:r>
            <a:r>
              <a:rPr b="0" lang="el-GR" sz="3200" spc="-1" strike="noStrike">
                <a:solidFill>
                  <a:srgbClr val="ffffff"/>
                </a:solidFill>
                <a:latin typeface="Tahoma"/>
              </a:rPr>
              <a:t>Ο</a:t>
            </a:r>
            <a:r>
              <a:rPr b="0" lang="en-GB" sz="3200" spc="-1" strike="noStrike">
                <a:solidFill>
                  <a:srgbClr val="ffffff"/>
                </a:solidFill>
                <a:latin typeface="Tahoma"/>
              </a:rPr>
              <a:t>Σ ΤΟΥ </a:t>
            </a:r>
            <a:r>
              <a:rPr b="0" lang="el-GR" sz="3200" spc="-1" strike="noStrike">
                <a:solidFill>
                  <a:srgbClr val="ffffff"/>
                </a:solidFill>
                <a:latin typeface="Tahoma"/>
              </a:rPr>
              <a:t>Ε</a:t>
            </a:r>
            <a:r>
              <a:rPr b="0" lang="en-GB" sz="3200" spc="-1" strike="noStrike">
                <a:solidFill>
                  <a:srgbClr val="ffffff"/>
                </a:solidFill>
                <a:latin typeface="Tahoma"/>
              </a:rPr>
              <a:t>ΡΩΤΗΜΑΤΟΛΟΓΊΟΥ</a:t>
            </a:r>
            <a:endParaRPr b="0" lang="en-US" sz="32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Ερωτήσεις που σχετίζονται με τους λειτουργικούς ορισμούς που έθεσε ο ερευνητής</a:t>
            </a:r>
            <a:r>
              <a:rPr b="0" lang="el-GR" sz="3200" spc="-1" strike="noStrike">
                <a:solidFill>
                  <a:srgbClr val="ffffff"/>
                </a:solidFill>
                <a:latin typeface="Tahoma"/>
              </a:rPr>
              <a:t> </a:t>
            </a:r>
            <a:r>
              <a:rPr b="0" lang="en-GB" sz="3200" spc="-1" strike="noStrike">
                <a:solidFill>
                  <a:srgbClr val="ffffff"/>
                </a:solidFill>
                <a:latin typeface="Tahoma"/>
              </a:rPr>
              <a:t>ώστε στη συνέχεια να μπορεί να ερμηνεύσει τις αντιλήψεις και τις πρακτικές του δείγματος σε σχέση με την κατανόηση του ζητήματος</a:t>
            </a:r>
            <a:r>
              <a:rPr b="0" lang="el-G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ΛΗ, ΚΑΤΑΝΟΗΤΗ ΓΛΩΣΣΑ</a:t>
            </a:r>
            <a:endParaRPr b="0" lang="en-US" sz="2800" spc="-1" strike="noStrike">
              <a:solidFill>
                <a:srgbClr val="ffffff"/>
              </a:solidFill>
              <a:latin typeface="Tahoma"/>
            </a:endParaRPr>
          </a:p>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ΜΙΚΡΕΣ ΕΡΩΤΗΣΕΙΣ – για να είναι ευκολονόητες.</a:t>
            </a:r>
            <a:endParaRPr b="0" lang="en-US" sz="2800" spc="-1" strike="noStrike">
              <a:solidFill>
                <a:srgbClr val="ffffff"/>
              </a:solidFill>
              <a:latin typeface="Tahoma"/>
            </a:endParaRPr>
          </a:p>
          <a:p>
            <a:pPr marL="609480" indent="-60948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ΔΙΠΛΩΝ ΕΡΩΤΗΣΕΩΝ –π.χ « Πόσο συχνά επισκεπτόσαστε τους γονείς σας;». Κάποιος από τους ερωτώμενους μπορεί να προέρχεται από οικογένεια όπου οι γονείς δεν ζουν μαζί και μπορεί για παράδειγμα να επισκέπτεται καθημερινά τη μητέρα του αλλά μια φορά το μήνα τον πατέρα του. Έτσι, δυσκολεύεται να δώσει απάντηση.</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560520" indent="-560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ΦΥΓΗ ΕΡΩΤΗΣΕΩΝ ΠΟΥ ΠΡΟΚΑΛΟΥΝ ΠΡΟΚΑΘΟΡΙΣΜΕΝΕΣ ΑΠΑΝΤΗΣΕΙΣ – π.χ «Στην κοινωνία μας θεωρείται ότι δεν είναι αποδεκτό οι γυναίκες να προτείνουν προφυλακτικό». Σε αυτή την πρόταση αναμένεται οι περισσότεροι να συμφωνήσουν καθώς οι ερωτώμενοι τείνουν να δίνουν απαντήσεις κοινωνικά αποδεκτές. Έτσι, είναι δύσκολο να διαφωνήσουν με μια θέση που προβάλλεται ότι είναι αντιπροσωπευτική της κοινωνίας μας. </a:t>
            </a:r>
            <a:endParaRPr b="0" lang="en-US" sz="2400" spc="-1" strike="noStrike">
              <a:solidFill>
                <a:srgbClr val="ffffff"/>
              </a:solidFill>
              <a:latin typeface="Tahoma"/>
            </a:endParaRPr>
          </a:p>
          <a:p>
            <a:pPr marL="560520" indent="-56052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rPr>
              <a:t>ΑΠΟΦΥΓΗ ΕΡΩΤΗΣΕΩΝ ΠΟΥ ΠΕΡΙΛΑΜΒΑΝΟΥΝ ΑΡΝΗΣΗ – π.χ  «Η χρήση μαριχουάνας δεν θα πρέπει να αποποινικοποιηθεί» ΝΑΙ          ΟΧΙ. Εδώ είναι αρκετά δύσκολο να κατανοήσει ο ερωτώμενος και στη συνέχεια ο ερευνητής τη διαφορά μεταξύ του ναι και του όχι.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572760" indent="-5727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ΠΟΥ ΧΡΕΙΑΖΟΝΤΑΙ ΕΙΔΙΚΕΣ ΓΝΩΣΕΙΣ ΓΙΑ ΝΑ ΑΠΑΝΤΗΘΟΥΝ – π.χ αναφορά σε συγκεκριμένους νόμους, πολιτικές που δεν είναι γνωστές, π.χ «Τι γνώμη έχετε για την πολιτική της κυβέρνησης στο θέμα της περίθαλψης μεταναστών με </a:t>
            </a:r>
            <a:r>
              <a:rPr b="0" lang="en-US" sz="2800" spc="-1" strike="noStrike">
                <a:solidFill>
                  <a:srgbClr val="ffffff"/>
                </a:solidFill>
                <a:latin typeface="Tahoma"/>
              </a:rPr>
              <a:t>HIV</a:t>
            </a:r>
            <a:r>
              <a:rPr b="0" lang="el-GR" sz="2800" spc="-1" strike="noStrike">
                <a:solidFill>
                  <a:srgbClr val="ffffff"/>
                </a:solidFill>
                <a:latin typeface="Tahoma"/>
              </a:rPr>
              <a:t>/</a:t>
            </a:r>
            <a:r>
              <a:rPr b="0" lang="en-US" sz="2800" spc="-1" strike="noStrike">
                <a:solidFill>
                  <a:srgbClr val="ffffff"/>
                </a:solidFill>
                <a:latin typeface="Tahoma"/>
              </a:rPr>
              <a:t>AIDS</a:t>
            </a:r>
            <a:r>
              <a:rPr b="0" lang="el-GR" sz="2800" spc="-1" strike="noStrike">
                <a:solidFill>
                  <a:srgbClr val="ffffff"/>
                </a:solidFill>
                <a:latin typeface="Tahoma"/>
              </a:rPr>
              <a:t>». Δεν είναι σίγουρο ότι ο γενικός πληθυσμός γνωρίζει τη συγκεκριμένη πολιτική οπότε δεν θα μπορέσει να απαντήσει και να τη σχολιάσει. </a:t>
            </a:r>
            <a:endParaRPr b="0" lang="en-US" sz="2800" spc="-1" strike="noStrike">
              <a:solidFill>
                <a:srgbClr val="ffffff"/>
              </a:solidFill>
              <a:latin typeface="Tahoma"/>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578880" indent="-5788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Ι ΟΡΟΙ ΝΑ ΕΙΝΑΙ ΚΑΤΑΝΟΗΤΟΙ ΑΠΟ ΟΛΕΣ ΤΙΣ ΚΟΙΝΩΝΙΚΕΣ ΟΜΑΔΕΣ π.χ, οι νέοι, οι μετανάστες, τα άτομα με χαμηλότερο μορφωτικό επίπεδο, αστικά κέντρα / αγροτικές περιοχές κατανοούν διαφορετικά το ίδιο ζήτημα. Όπως για παράδειγμα, «κακοποίηση» που για άλλους μπορεί να είναι και η  λεκτική ενώ για άλλες ομάδες του πληθυσμού η έννοια της κακοποίησης  να παραπέμπει  μόνο στη σωματική και μερικές φορές τη βαριάς μορφής</a:t>
            </a:r>
            <a:endParaRPr b="0" lang="en-US" sz="2800" spc="-1" strike="noStrike">
              <a:solidFill>
                <a:srgbClr val="ffffff"/>
              </a:solidFill>
              <a:latin typeface="Tahoma"/>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6" name="PlaceHolder 2"/>
          <p:cNvSpPr>
            <a:spLocks noGrp="1"/>
          </p:cNvSpPr>
          <p:nvPr>
            <p:ph/>
          </p:nvPr>
        </p:nvSpPr>
        <p:spPr>
          <a:xfrm>
            <a:off x="468360" y="1700280"/>
            <a:ext cx="8229600" cy="4114800"/>
          </a:xfrm>
          <a:prstGeom prst="rect">
            <a:avLst/>
          </a:prstGeom>
          <a:noFill/>
          <a:ln w="0">
            <a:noFill/>
          </a:ln>
        </p:spPr>
        <p:txBody>
          <a:bodyPr anchor="t">
            <a:normAutofit fontScale="87000"/>
          </a:bodyPr>
          <a:p>
            <a:pPr marL="529920" indent="-52992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ΠΟΥ ΛΟΓΩ ΤΗΣ ΑΝΑΦΟΡΑΣ ΣΕ ΟΝΟΜΑΤΑ Ή ΣΥΜΒΟΛΑ ΠΡΟΚΑΛΟΥΝ ΣΥΓΚΕΚΡΙΜΕΝΕΣ ΑΠΑΝΤΗΣΕΙΣ. π.χ «ποια είναι η γνώμη σας για την αρνητική στάση της εκκλησίας μας στο θέμα της χρήσης προφυλακτικού;» Αυτή η ερώτηση θα έχει άλλη επιρροή σε άτομα με έντονο θρησκευτικό συναίσθημα και άλλη σε κάποιον άθεο για παράδειγμα. Έτσι, τα άτομα με υψηλό βαθμό θρησκευτικότητας θα συμφωνήσουν με αυτή τη θέση, άσχετα εάν η προσωπική τους άποψη είναι διαφορετική.</a:t>
            </a:r>
            <a:endParaRPr b="0" lang="en-US" sz="2800" spc="-1" strike="noStrike">
              <a:solidFill>
                <a:srgbClr val="ffffff"/>
              </a:solidFill>
              <a:latin typeface="Tahoma"/>
            </a:endParaRPr>
          </a:p>
          <a:p>
            <a:pPr marL="529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585000" indent="-5850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ΕΡΩΤΗΣΕΩΝ ΓΙΑ ΜΗ ΑΠΟΔΕΚΤΕΣ ΣΥΜΠΕΡΙΦΟΡΕΣ. π.χ «Έχετε κακοποιήσει τη γυναίκα σας;» Οι πληροφορίες για τέτοιες συμπεριφορές συλλέγονται έμμεσα χωρίς να πρέπει ο ερωτώμενος να παραδεχθεί ότι έχει διαπράξει κάποια μη αποδεκτή συμπεριφορά.</a:t>
            </a:r>
            <a:endParaRPr b="0" lang="en-US" sz="2800" spc="-1" strike="noStrike">
              <a:solidFill>
                <a:srgbClr val="ffffff"/>
              </a:solidFill>
              <a:latin typeface="Tahoma"/>
            </a:endParaRPr>
          </a:p>
          <a:p>
            <a:pPr marL="585000" indent="-5850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ΣΕ ΕΡΩΤΗΜΑΤΑ ΠΟΥ ΔΙΕΡΕΥΝΑΤΑΙ Η ΣΥΧΝΟΤΗΤΑ ΠΡΕΠΕΙ ΝΑ ΥΠΑΡΧΕΙ ΠΑΝΤΑ ΧΡΟΝΙΚΑ ΚΑΘΟΡΙΣΜΕΝΟ ΔΙΑΣΤΗΜΑ π.χ καθημερινά, εβδομάδα, μήνα κλπ </a:t>
            </a:r>
            <a:endParaRPr b="0" lang="en-US" sz="2800" spc="-1" strike="noStrike">
              <a:solidFill>
                <a:srgbClr val="ffffff"/>
              </a:solidFill>
              <a:latin typeface="Tahoma"/>
            </a:endParaRPr>
          </a:p>
          <a:p>
            <a:pPr marL="585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0" name="PlaceHolder 2"/>
          <p:cNvSpPr>
            <a:spLocks noGrp="1"/>
          </p:cNvSpPr>
          <p:nvPr>
            <p:ph/>
          </p:nvPr>
        </p:nvSpPr>
        <p:spPr>
          <a:xfrm>
            <a:off x="468360" y="1484280"/>
            <a:ext cx="8229600" cy="4114800"/>
          </a:xfrm>
          <a:prstGeom prst="rect">
            <a:avLst/>
          </a:prstGeom>
          <a:noFill/>
          <a:ln w="0">
            <a:noFill/>
          </a:ln>
        </p:spPr>
        <p:txBody>
          <a:bodyPr anchor="t">
            <a:normAutofit fontScale="88000"/>
          </a:bodyPr>
          <a:p>
            <a:pPr marL="536040" indent="-536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ΡΕΠΕΙ ΠΑΝΤΟΤΕ ΝΑ ΔΙΝΕΤΑΙ Η ΠΙΘΑΝΗ ΑΠΑΝΤΗΣΗ «Δεν γνωρίζω» ή «Δεν απαντώ» καθώς δεν γνωρίζουν όλα τα άτομα όλα τα θέματα. Επίσης σε ορισμένα ερωτήματα πρέπει να δίνεται η δυνατότητα στον ερωτώμενο να επιλέξει ως απάντηση «Δεν είμαι σίγουρος / η».</a:t>
            </a:r>
            <a:endParaRPr b="0" lang="en-US" sz="2800" spc="-1" strike="noStrike">
              <a:solidFill>
                <a:srgbClr val="ffffff"/>
              </a:solidFill>
              <a:latin typeface="Tahoma"/>
            </a:endParaRPr>
          </a:p>
          <a:p>
            <a:pPr marL="536040" indent="-5360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ΕΝΙΚΟΣ Ή ΠΛΗΘΥΝΤΙΚΟΣ; Αυτό είναι ένα ζήτημα που πρέπει να αποφασίσει η ερευνητική ομάδα και κάθε φορά, ανάλογα με το θέμα και την ομάδα στην οποία απευθύνεται μπορεί να χρησιμοποιήσει τον ενικό ή τον πληθυντικό. Για παράδειγμα, όταν η έρευνα απευθύνεται σε νέους, χρησιμοποιείται ο ενικός αριθμός. </a:t>
            </a:r>
            <a:endParaRPr b="0" lang="en-US" sz="2800" spc="-1" strike="noStrike">
              <a:solidFill>
                <a:srgbClr val="ffffff"/>
              </a:solidFill>
              <a:latin typeface="Tahoma"/>
            </a:endParaRPr>
          </a:p>
          <a:p>
            <a:pPr marL="536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ΕΠΙΣΤΗΜΟΝΙΚΗ ΕΡΕΥΝΑ</a:t>
            </a:r>
            <a:endParaRPr b="0" lang="en-US" sz="4400" spc="-1" strike="noStrike">
              <a:solidFill>
                <a:srgbClr val="ffffff"/>
              </a:solidFill>
              <a:latin typeface="Tahoma"/>
            </a:endParaRPr>
          </a:p>
        </p:txBody>
      </p:sp>
      <p:sp>
        <p:nvSpPr>
          <p:cNvPr id="86" name="PlaceHolder 2"/>
          <p:cNvSpPr>
            <a:spLocks noGrp="1"/>
          </p:cNvSpPr>
          <p:nvPr>
            <p:ph/>
          </p:nvPr>
        </p:nvSpPr>
        <p:spPr>
          <a:xfrm>
            <a:off x="468360" y="1628640"/>
            <a:ext cx="8229600" cy="4114800"/>
          </a:xfrm>
          <a:prstGeom prst="rect">
            <a:avLst/>
          </a:prstGeom>
          <a:noFill/>
          <a:ln w="0">
            <a:noFill/>
          </a:ln>
        </p:spPr>
        <p:txBody>
          <a:bodyPr anchor="t">
            <a:normAutofit fontScale="98000"/>
          </a:bodyPr>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Για να καταλήξει ο ερευνητής σε έγκυρα και επιστημονικά αποτελέσματα δύο είναι τα βασικά ζητήματα που πρέπει να εστιάσει :</a:t>
            </a:r>
            <a:endParaRPr b="0" lang="en-US" sz="3200" spc="-1" strike="noStrike">
              <a:solidFill>
                <a:srgbClr val="ffffff"/>
              </a:solidFill>
              <a:latin typeface="Tahoma"/>
            </a:endParaRPr>
          </a:p>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 </a:t>
            </a:r>
            <a:r>
              <a:rPr b="0" lang="el-GR" sz="3200" spc="-1" strike="noStrike">
                <a:solidFill>
                  <a:srgbClr val="ffffff"/>
                </a:solidFill>
                <a:latin typeface="Tahoma"/>
              </a:rPr>
              <a:t>Πρώτον στη συλλογή ενός αντιπροσωπευτικού δείγματος του υπό μελέτη πληθυσμού </a:t>
            </a:r>
            <a:endParaRPr b="0" lang="en-US" sz="3200" spc="-1" strike="noStrike">
              <a:solidFill>
                <a:srgbClr val="ffffff"/>
              </a:solidFill>
              <a:latin typeface="Tahoma"/>
            </a:endParaRPr>
          </a:p>
          <a:p>
            <a:pPr marL="335880" indent="-335880" algn="just">
              <a:lnSpc>
                <a:spcPct val="8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Δεύτερον στη διαμόρφωση ενός κατάλληλου για την έρευνα ερωτηματολογίο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ΚΑΤΗΓΟΡΙΟΠΟΙΗΣΕΙΣ ΣΕ ΕΡΩΤΗΣΕΙΣ ΠΟΥ ΠΡΟΚΑΛΟΥΝ ΑΜΗΧΑΝΙΑ π.χ ηλικία, εισόδημα. </a:t>
            </a:r>
            <a:r>
              <a:rPr b="0" lang="el-GR" sz="3200" spc="-1" strike="noStrike">
                <a:solidFill>
                  <a:srgbClr val="ffffff"/>
                </a:solidFill>
                <a:latin typeface="Tahoma"/>
              </a:rPr>
              <a:t>Για παράδειγμα, είναι ευκολότερο για τον ερωτώμενο να απαντήσει ότι ανήκει στην ηλικιακή ομάδα 25-35 ετών από το να δηλώσει τη συγκεκριμένη ηλικία του / της.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ff"/>
                </a:solidFill>
                <a:latin typeface="Tahoma"/>
              </a:rPr>
              <a:t>Δ</a:t>
            </a:r>
            <a:r>
              <a:rPr b="0" lang="en-GB" sz="4400" spc="-1" strike="noStrike">
                <a:solidFill>
                  <a:srgbClr val="ffffff"/>
                </a:solidFill>
                <a:latin typeface="Tahoma"/>
              </a:rPr>
              <a:t>ΙΑΜ</a:t>
            </a:r>
            <a:r>
              <a:rPr b="0" lang="el-GR" sz="4400" spc="-1" strike="noStrike">
                <a:solidFill>
                  <a:srgbClr val="ffffff"/>
                </a:solidFill>
                <a:latin typeface="Tahoma"/>
              </a:rPr>
              <a:t>Ο</a:t>
            </a:r>
            <a:r>
              <a:rPr b="0" lang="en-GB" sz="4400" spc="-1" strike="noStrike">
                <a:solidFill>
                  <a:srgbClr val="ffffff"/>
                </a:solidFill>
                <a:latin typeface="Tahoma"/>
              </a:rPr>
              <a:t>ΡΦΩΣΗ ΕΡΩΤ</a:t>
            </a:r>
            <a:r>
              <a:rPr b="0" lang="el-GR" sz="4400" spc="-1" strike="noStrike">
                <a:solidFill>
                  <a:srgbClr val="ffffff"/>
                </a:solidFill>
                <a:latin typeface="Tahoma"/>
              </a:rPr>
              <a:t>Η</a:t>
            </a:r>
            <a:r>
              <a:rPr b="0" lang="en-GB" sz="4400" spc="-1" strike="noStrike">
                <a:solidFill>
                  <a:srgbClr val="ffffff"/>
                </a:solidFill>
                <a:latin typeface="Tahoma"/>
              </a:rPr>
              <a:t>ΣΕΩΝ</a:t>
            </a:r>
            <a:endParaRPr b="0" lang="en-US" sz="4400" spc="-1" strike="noStrike">
              <a:solidFill>
                <a:srgbClr val="ffffff"/>
              </a:solidFill>
              <a:latin typeface="Tahoma"/>
            </a:endParaRPr>
          </a:p>
        </p:txBody>
      </p:sp>
      <p:sp>
        <p:nvSpPr>
          <p:cNvPr id="124" name="PlaceHolder 2"/>
          <p:cNvSpPr>
            <a:spLocks noGrp="1"/>
          </p:cNvSpPr>
          <p:nvPr>
            <p:ph/>
          </p:nvPr>
        </p:nvSpPr>
        <p:spPr>
          <a:xfrm>
            <a:off x="468360" y="1197000"/>
            <a:ext cx="8229600" cy="4114800"/>
          </a:xfrm>
          <a:prstGeom prst="rect">
            <a:avLst/>
          </a:prstGeom>
          <a:noFill/>
          <a:ln w="0">
            <a:noFill/>
          </a:ln>
        </p:spPr>
        <p:txBody>
          <a:bodyPr anchor="t">
            <a:normAutofit fontScale="86000"/>
          </a:bodyPr>
          <a:p>
            <a:pPr marL="523800" indent="-523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ΟΦΥΓΗ ΚΟΙΝΩΝΙΚΑ ΑΠΟΔΕΚΤΩΝ ΖΗΤΗΜΑΤΩΝ ΜΕ ΑΠΑΝΤΗΣΕΙΣ, ΣΥΜΦΩΝΩ Ή ΔΙΑΦΩΝΩ ΓΙΑΤΙ ΠΡΟΚΑΛΟΥΝ ΥΨΗΛΑ ΠΟΣΟΣΤΑ ΑΝΑΜΕΝΟΜΕΝΩΝ ΑΠΑΝΤΗΣΕΩΝ. π.χ «Το αλκοόλ  ή το κάπνισμα κάνει κακό στην υγεία». Αυτή η απάντηση, εάν δηλαδή κάποιος συμφωνήσει ότι το κάπνισμα κάνει κακό στην υγεία δεν προσφέρει καμία νέα πληροφορία στον ερευνητή και δεν μπορεί στη συνέχεια να την αξιολογήσει στην ερμηνεία των αποτελεσμάτων. Είναι κάτι που σε κοινωνικό επίπεδο είναι ήδη καταγεγραμμένο και δεν έχει νόημα να συμπεριληφθεί σε μια έρευνα.</a:t>
            </a:r>
            <a:endParaRPr b="0" lang="en-US" sz="2800" spc="-1" strike="noStrike">
              <a:solidFill>
                <a:srgbClr val="ffffff"/>
              </a:solidFill>
              <a:latin typeface="Tahoma"/>
            </a:endParaRPr>
          </a:p>
          <a:p>
            <a:pPr marL="523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ΤΥΠΟΣ ΕΡΩΤΗΣΕΩΝ</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ι ερωτήσεις χωρίζονται σε κλειστές και ανοιχτές. Οι κλειστές ερωτήσεις συνοδεύονται από προκαθορισμένες απαντήσεις και ο ερωτώμενος επιλέγει την απάντηση που ταιριάζει περισσότερο στην περίπτωσή του. Καθώς ο ερευνητής δεν μπορεί να προβλέψει όλες τις πιθανές απαντήσεις πρέπει πάντοτε να υπάρχει η επιλογή «Άλλο….» όπου ο ερωτώμενος αναφέρει την δική του απάντηση. Επίσης πρέπει να προβλέπεται η απάντηση « Δεν ξέρω» ή « Δεν είμαι σίγουρος /η» για ανάλογες περιπτώσεις.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Tahoma"/>
              </a:rPr>
              <a:t>Αυτό-συμπληρούμενο</a:t>
            </a:r>
            <a:r>
              <a:rPr b="1" lang="el-GR" sz="2400" spc="-1" strike="noStrike">
                <a:solidFill>
                  <a:srgbClr val="ffffff"/>
                </a:solidFill>
                <a:latin typeface="Tahoma"/>
              </a:rPr>
              <a:t> – </a:t>
            </a:r>
            <a:r>
              <a:rPr b="0" lang="el-GR" sz="2400" spc="-1" strike="noStrike">
                <a:solidFill>
                  <a:srgbClr val="ffffff"/>
                </a:solidFill>
                <a:latin typeface="Tahoma"/>
              </a:rPr>
              <a:t>Ο ερευνητής διανέμει τα ερωτηματολόγια σε συγκεκριμένους χώρους ή σε ομάδες ή σε περιοχές και παραλαμβάνει συμπληρωμένο το ερωτηματολόγιο. Με αυτή τη μέθοδο μπορεί να συμπληρωθούν αρκετά ερωτηματολόγια σε μικρό χρονικό διάστημα και το άλλο θετικό στοιχείο είναι ότι ο ερωτώμενος μπορεί να εκφράσει τις όποιες απόψεις του απαλλαγμένος από το άγχος ότι κάποιος, έστω και άγνωστος, γνωρίζει τις απαντήσεις που έδωσε. Το αρνητικό σε αυτή τη μέθοδο είναι ότι αρκετά ερωτηματολόγια δεν επιστρέφονται  και από αυτά που επιστρέφονται αρκετά δεν είναι πλήρως συμπληρωμένα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endParaRPr b="0" lang="en-US" sz="3600" spc="-1" strike="noStrike">
              <a:solidFill>
                <a:srgbClr val="ffffff"/>
              </a:solidFill>
              <a:latin typeface="Tahoma"/>
            </a:endParaRPr>
          </a:p>
        </p:txBody>
      </p:sp>
      <p:sp>
        <p:nvSpPr>
          <p:cNvPr id="130" name="PlaceHolder 2"/>
          <p:cNvSpPr>
            <a:spLocks noGrp="1"/>
          </p:cNvSpPr>
          <p:nvPr>
            <p:ph/>
          </p:nvPr>
        </p:nvSpPr>
        <p:spPr>
          <a:xfrm>
            <a:off x="468360" y="1341360"/>
            <a:ext cx="8229600" cy="4114800"/>
          </a:xfrm>
          <a:prstGeom prst="rect">
            <a:avLst/>
          </a:prstGeom>
          <a:noFill/>
          <a:ln w="0">
            <a:noFill/>
          </a:ln>
        </p:spPr>
        <p:txBody>
          <a:bodyPr anchor="t">
            <a:normAutofit fontScale="86000"/>
          </a:bodyPr>
          <a:p>
            <a:pPr marL="294840" indent="-2948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ffffff"/>
                </a:solidFill>
                <a:latin typeface="Tahoma"/>
              </a:rPr>
              <a:t>Προσωπική συνέντευξη (</a:t>
            </a:r>
            <a:r>
              <a:rPr b="0" i="1" lang="en-US" sz="2800" spc="-1" strike="noStrike">
                <a:solidFill>
                  <a:srgbClr val="ffffff"/>
                </a:solidFill>
                <a:latin typeface="Tahoma"/>
              </a:rPr>
              <a:t>face to face interview</a:t>
            </a:r>
            <a:r>
              <a:rPr b="0" i="1" lang="el-GR" sz="2800" spc="-1" strike="noStrike">
                <a:solidFill>
                  <a:srgbClr val="ffffff"/>
                </a:solidFill>
                <a:latin typeface="Tahoma"/>
              </a:rPr>
              <a:t> )- </a:t>
            </a:r>
            <a:r>
              <a:rPr b="0" lang="el-GR" sz="2800" spc="-1" strike="noStrike">
                <a:solidFill>
                  <a:srgbClr val="ffffff"/>
                </a:solidFill>
                <a:latin typeface="Tahoma"/>
              </a:rPr>
              <a:t> Με τη μέθοδο αυτή ο ερευνητής  ρωτάει τον ερωτώμενο και συμπληρώνει τις απαντήσεις. Το θετικό σε αυτό τον τρόπο συμπλήρωσης είναι ότι θα δοθούν όλες οι απαντήσεις και δεν θα υπάρξουν κενές ερωτήσεις ούτε κενά ερωτηματολόγια. Το αρνητικό είναι ότι πρόκειται για μια χρονοβόρα μέθοδο καθώς μια συνέντευξη μπορεί να διαρκέσει από 20 λεπτά έως και μιάμιση ώρα και  ότι ο ερωτώμενος, ιδιαίτερα σε ευαίσθητα θέματα όπως π.χ η σεξουαλική συμπεριφορά πρέπει να ομολογήσει προσωπικά δεδομένα σε κάποιο άγνωστο πρόσωπο.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ff"/>
                </a:solidFill>
                <a:latin typeface="Tahoma"/>
              </a:rPr>
              <a:t>ΤΕΧΝΙΚΕΣ ΣΥΜΠΛΗΡΩΣΗΣ ΕΡΩΤΗΜΑΤΟΛΟΓΙΟΥ</a:t>
            </a:r>
            <a:endParaRPr b="0" lang="en-US" sz="36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ffffff"/>
                </a:solidFill>
                <a:latin typeface="Tahoma"/>
              </a:rPr>
              <a:t>Η τηλεφωνική συνέντευξη-</a:t>
            </a:r>
            <a:r>
              <a:rPr b="1" lang="el-GR" sz="2400" spc="-1" strike="noStrike">
                <a:solidFill>
                  <a:srgbClr val="ffffff"/>
                </a:solidFill>
                <a:latin typeface="Tahoma"/>
              </a:rPr>
              <a:t> </a:t>
            </a:r>
            <a:r>
              <a:rPr b="0" lang="el-GR" sz="2400" spc="-1" strike="noStrike">
                <a:solidFill>
                  <a:srgbClr val="ffffff"/>
                </a:solidFill>
                <a:latin typeface="Tahoma"/>
              </a:rPr>
              <a:t>Πρόκειται για μέθοδο αρκετά διαδεδομένη στο εξωτερικό αλλά όχι και στη χώρα μας ιδιαίτερα όταν πρόκειται για ευαίσθητα θέματα. Για παράδειγμα, στη Γαλλία και την Ιταλία, οι έρευνες για την σεξουαλική συμπεριφορά σε σχέση με την πρόληψη από τον ιό </a:t>
            </a:r>
            <a:r>
              <a:rPr b="0" lang="en-US" sz="2400" spc="-1" strike="noStrike">
                <a:solidFill>
                  <a:srgbClr val="ffffff"/>
                </a:solidFill>
                <a:latin typeface="Tahoma"/>
              </a:rPr>
              <a:t>HIV</a:t>
            </a:r>
            <a:r>
              <a:rPr b="0" lang="el-GR" sz="2400" spc="-1" strike="noStrike">
                <a:solidFill>
                  <a:srgbClr val="ffffff"/>
                </a:solidFill>
                <a:latin typeface="Tahoma"/>
              </a:rPr>
              <a:t> έγιναν τηλεφωνικά και είχαν υψηλά ποσοστά απαντήσεων. Στη χώρα μας χρησιμοποιείται κυρίως για έρευνες αγοράς και εφαρμόζεται με περιορισμένο αριθμό ερωτήσεων ώστε να είναι σύντομη. Με αυτή τη μέθοδο ο ερευνητής κερδίζει χρόνο και το δείγμα επιλέγεται με τυχαία δειγματοληψία από τον τηλεφωνικό κατάλογο.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ΔΟΚΙΜΗ ΕΡΩΤΗΜΑΤΟΛΟΓΙΟΥ</a:t>
            </a:r>
            <a:r>
              <a:rPr b="0" lang="el-GR" sz="4000" spc="-1" strike="noStrike">
                <a:solidFill>
                  <a:srgbClr val="ffffff"/>
                </a:solidFill>
                <a:latin typeface="Tahoma"/>
              </a:rPr>
              <a:t> </a:t>
            </a:r>
            <a:r>
              <a:rPr b="1" lang="el-GR" sz="4000" spc="-1" strike="noStrike">
                <a:solidFill>
                  <a:srgbClr val="ffffff"/>
                </a:solidFill>
                <a:latin typeface="Tahoma"/>
              </a:rPr>
              <a:t>(ΠΙΛΟΤΙΚΗ ΕΡΕΥΝΑ)</a:t>
            </a:r>
            <a:endParaRPr b="0" lang="en-US" sz="40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ροτού ο ερευνητής προχωρήσει στην έρευνα πεδίου (συμπλήρωση των ερωτηματολογίων) θα πρέπει να δοκιμάσει το ερωτηματολόγιο. Σε ένα περιορισμένο δείγμα, το οποίο  συνήθως επιλέγεται με τη μέθοδο του διαθέσιμου δείγματος, ο ερευνητής συμπληρώνει τα ερωτηματολόγια με κύριο στόχο την αποφυγή λαθών στην έρευνα πεδίου. Σε αυτό το στάδιο θα εντοπισθούν ασάφειες, μη κατανοητοί όροι, δυσκολία στην επιλογή απάντησης ιδιαίτερα στις κλειστές ερωτήσεις όπου οι απαντήσεις είναι προκαθορισμένες κλπ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Tahoma"/>
              </a:rPr>
              <a:t>ΕΡΕΥΝΑ ΠΕΔΙΟΥ</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Σε αυτό το στάδιο, ανάλογα με τη μέθοδο που έχει επιλεγεί </a:t>
            </a:r>
            <a:r>
              <a:rPr b="0" lang="en-GB" sz="2800" spc="-1" strike="noStrike">
                <a:solidFill>
                  <a:srgbClr val="ffffff"/>
                </a:solidFill>
                <a:latin typeface="Tahoma"/>
              </a:rPr>
              <a:t>συμπληρώνονται τα </a:t>
            </a:r>
            <a:r>
              <a:rPr b="0" lang="el-GR" sz="2800" spc="-1" strike="noStrike">
                <a:solidFill>
                  <a:srgbClr val="ffffff"/>
                </a:solidFill>
                <a:latin typeface="Tahoma"/>
              </a:rPr>
              <a:t>ε</a:t>
            </a:r>
            <a:r>
              <a:rPr b="0" lang="en-GB" sz="2800" spc="-1" strike="noStrike">
                <a:solidFill>
                  <a:srgbClr val="ffffff"/>
                </a:solidFill>
                <a:latin typeface="Tahoma"/>
              </a:rPr>
              <a:t>ρωτηματολόγια  και ανάλογα με το δείγμα είναι και η διάρκεια αυτού του σταδίου. Η συμπλήρωση πρέπει να μην διαρκεί πολύ ιδιαίτερα σε θέματα που μεταβάλλονται με το χρόνο καθώς εάν αλλάξουν ορισμένα δεδομένα αλλάζουν και οι απαντήσεις του δείγματος και έτσι ο ερευνητής στο τέλος θα έχει πρόβλημα στην ερμηνεία των αποτελεσμάτων</a:t>
            </a:r>
            <a:r>
              <a:rPr b="0" lang="el-G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ΣΤΑΤΙΣΤΙΚΗ ΕΠΕΞΕΡΓΑΣΙΑ ΣΤΟΙΧΕΙΩΝ</a:t>
            </a:r>
            <a:endParaRPr b="0" lang="en-US" sz="40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just">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Όλα τα στοιχεία που συλλέγονται από τα ερωτηματολόγια στη συνέχεια θα κωδικοποιηθούν συνήθως με το στατιστικό πακέτο </a:t>
            </a:r>
            <a:r>
              <a:rPr b="0" lang="en-US" sz="3200" spc="-1" strike="noStrike">
                <a:solidFill>
                  <a:srgbClr val="ffffff"/>
                </a:solidFill>
                <a:latin typeface="Tahoma"/>
              </a:rPr>
              <a:t>SPSS</a:t>
            </a:r>
            <a:r>
              <a:rPr b="0" lang="el-GR" sz="3200" spc="-1" strike="noStrike">
                <a:solidFill>
                  <a:srgbClr val="ffffff"/>
                </a:solidFill>
                <a:latin typeface="Tahoma"/>
              </a:rPr>
              <a:t> (</a:t>
            </a:r>
            <a:r>
              <a:rPr b="0" lang="en-US" sz="3200" spc="-1" strike="noStrike">
                <a:solidFill>
                  <a:srgbClr val="ffffff"/>
                </a:solidFill>
                <a:latin typeface="Tahoma"/>
              </a:rPr>
              <a:t>Statistical Package for Social Sciences</a:t>
            </a:r>
            <a:r>
              <a:rPr b="0" lang="el-GR" sz="3200" spc="-1" strike="noStrike">
                <a:solidFill>
                  <a:srgbClr val="ffffff"/>
                </a:solidFill>
                <a:latin typeface="Tahoma"/>
              </a:rPr>
              <a:t>) θα παραχθούν οι πρώτες συσχετίσεις μεταξύ των μεταβλητών. Ο ερευνητής θα προχωρήσει στην ανάλυση και ερμηνεία των αποτελεσμάτω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ΕΡΜΗΝΕΙΑ ΑΠΟΤΕΛΕΣΜΑΤΩΝ- ΣΥΓΓΡΑΦΗ ΤΕΛΙΚΗΣ ΕΚΘΕΣΗΣ</a:t>
            </a:r>
            <a:endParaRPr b="0" lang="en-US" sz="40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πό τη στιγμή που το ερωτηματολόγιο έχει σχεδιασθεί σωστά λαμβάνοντας υπόψη όσα προαναφέρθηκαν, το δείγμα είναι αντιπροσωπευτικό, έχει επιλεγεί με μια από τις μεθόδους που προαναφέρθηκαν, οι ορισμοί έχουν γίνει κατανοητοί από τους ερωτώμενους και το ερωτηματολόγιο έχει συμπληρωθεί σωστά ο ερευνητής δεν αμφισβητεί τα αποτελέσματα της έρευνας που θεωρούνται έγκυρα και αντιπροσωπευτικά της ομάδας που μελέτησ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ΕΠΙΛΟΓΗ ΘΕΜΑΤΟΣ</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Σκοπός- </a:t>
            </a:r>
            <a:r>
              <a:rPr b="0" lang="en-GB" sz="2800" spc="-1" strike="noStrike">
                <a:solidFill>
                  <a:srgbClr val="ffffff"/>
                </a:solidFill>
                <a:latin typeface="Tahoma"/>
              </a:rPr>
              <a:t>Προτού ξεκινήσει κανείς την έρευνα χρειάζεται να είναι ξεκάθαρος ο σκοπός. Τι προσπαθεί να περιγράψει /ερμηνεύσει/ κατανοήσει; Ο σκοπός, προτού ξεκινήσει η ερευνητική διαδικασία πρέπει να είναι απόλυτα συγκεκριμένος και από κάποιο γενικό ενδιαφέρον για παράδειγμα στο χώρο της δημόσιας υγείας πρέπει να οδηγηθεί σε ένα συγκεκριμένο ζήτημα (π.χ ναρκωτικά ) και στη συνέχεια τι θέλει να μάθει ακριβώς για το ζήτημα αυτό (περιγραφή του προβλήματος, μελέτη συγκεκριμένων ομάδων, αίτια, συνέπειες κλπ).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ffffff"/>
                </a:solidFill>
                <a:latin typeface="Tahoma"/>
              </a:rPr>
              <a:t>ΕΡΜΗΝΕΙΑ ΑΠΟΤΕΛΕΣΜΑΤΩΝ- ΣΥΓΓΡΑΦΗ ΤΕΛΙΚΗΣ ΕΚΘΕΣΗΣ</a:t>
            </a:r>
            <a:endParaRPr b="0" lang="en-US" sz="40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just">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ahoma"/>
              </a:rPr>
              <a:t> </a:t>
            </a:r>
            <a:r>
              <a:rPr b="0" lang="el-GR" sz="2400" spc="-1" strike="noStrike">
                <a:solidFill>
                  <a:srgbClr val="ffffff"/>
                </a:solidFill>
                <a:latin typeface="Tahoma"/>
              </a:rPr>
              <a:t>Με βάση τα αποτελέσματα μπορεί να προχωρήσει στην ερμηνεία του κοινωνικού φαινομένου που μελέτησε καθώς και στην εξαγωγή γενικεύσιμων συμπερασμάτων. Τα συμπεράσματα αυτά στη συνέχεια μπορούν να συνδεθούν με την κοινωνιολογική θεωρία στην οποία στηρίχτηκε ο ερευνητής για τη δημιουργία των υποθέσεων και με αυτό τον τρόπο επιτυγχάνεται η ανάπτυξη της κοινωνιολογικής γνώσης εφόσον αυτός ήταν ο στόχος της έρευνας.  Ο ερευνητής πρέπει πάντοτε να γνωρίζει ότι μια κοινωνιολογική έρευνα δεν  επαρκεί για μια ολοκληρωμένη διερεύνηση ενός κοινωνικού φαινομένου αλλά απλά ρίχνει φως σε ορισμένες πτυχές του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ΥΝΟΨΗ</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νακεφαλαιώνοντας, για την ποσοτική έρευνα ο ερευνητής πρέπει να γνωρίζει τη σημασία που έχει για μια έγκυρη έρευνα : η εκτενής βιβλιογραφική ανασκόπηση, η δημιουργία των υποθέσεων της έρευνας, ένα αντιπροσωπευτικό δείγμα, ένα σωστά σχεδιασμένο και συμπληρωμένο ερωτηματολόγιο  και τέλος η ερμηνεία των αποτελεσμάτων και η εξαγωγή γενικεύσιμων συμπερασμάτω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ΚΟΠΟΣ</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Χρονικά- θέλουμε να μελετήσουμε το παρόν, το παρελθόν ή μια σύγκριση των δύο;</a:t>
            </a:r>
            <a:endParaRPr b="0" lang="en-US" sz="2800" spc="-1" strike="noStrike">
              <a:solidFill>
                <a:srgbClr val="ffffff"/>
              </a:solidFill>
              <a:latin typeface="Tahoma"/>
            </a:endParaRPr>
          </a:p>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Γεωγραφικά- μας ενδιαφέρει να μελετηθεί το φαινόμενο σε μια συγκεκριμένη περιοχή ή σύγκριση περιοχών (αστικό ή αγροτικό, περιοχή Αθηνών, πανελλαδική έρευνα)</a:t>
            </a:r>
            <a:endParaRPr b="0" lang="en-US" sz="2800" spc="-1" strike="noStrike">
              <a:solidFill>
                <a:srgbClr val="ffffff"/>
              </a:solidFill>
              <a:latin typeface="Tahoma"/>
            </a:endParaRPr>
          </a:p>
          <a:p>
            <a:pPr marL="603360" indent="-60336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Γενικό ή ειδικό μέρος - στόχος είναι η περιγραφή / ερμηνεία του φαινομένου ή συγκεκριμένων πτυχών το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ΣΚΟΠΟΣ</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591120" indent="-59112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Περιγραφή ή σύγκριση- στόχος είναι η περιγραφή / ερμηνεία του θέματος ή η σύγκριση;</a:t>
            </a:r>
            <a:endParaRPr b="0" lang="en-US" sz="2800" spc="-1" strike="noStrike">
              <a:solidFill>
                <a:srgbClr val="ffffff"/>
              </a:solidFill>
              <a:latin typeface="Tahoma"/>
            </a:endParaRPr>
          </a:p>
          <a:p>
            <a:pPr marL="591120" indent="-59112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Αίτιο ή αποτέλεσμα (συνέπειες) - μας ενδιαφέρει να διερευνήσουμε τις αιτίες που προκαλούν το φαινόμενο ή τις επιπτώσεις του; Για παράδειγμα, μας ενδιαφέρει τι οδηγεί στην αύξηση των διαζυγίων ή ποιες είναι οι επιπτώσεις από την αύξηση των διαζυγίων στο κοινωνικό σύνολο ή σε ειδικές ομάδες (οικογένεια, παιδιά, συζύγους κλπ)</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Tahoma"/>
              </a:rPr>
              <a:t>ΒΙΒΛΙΟΓΡΑΦΙΚΗ ΑΝΑΣΚΟΠΗΣΗ</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Η ανασκόπηση της υπάρχουσας βιβλιογραφίας για το ζήτημα που ο ερευνητής επιθυμεί να διερευνήσει, θα συμβάλλει στην ενημέρωσή του για τα θέματα που έχουν ήδη μελετηθεί σε βάθος, για πτυχές του προβλήματος που επιδέχονται περαιτέρω διερεύνησης καθώς και για τις μεθόδους που έχουν χρησιμοποιηθεί για τη μελέτη του συγκεκριμένου ζητήματος. Έτσι, θα βοηθηθεί στη διατύπωση του σκοπού της έρευνας και στη διατύπωση των υποθέσεων.</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ΔΙΑΤ</a:t>
            </a:r>
            <a:r>
              <a:rPr b="0" lang="el-GR" sz="4400" spc="-1" strike="noStrike">
                <a:solidFill>
                  <a:srgbClr val="ffffff"/>
                </a:solidFill>
                <a:latin typeface="Tahoma"/>
              </a:rPr>
              <a:t>Υ</a:t>
            </a:r>
            <a:r>
              <a:rPr b="0" lang="en-GB" sz="4400" spc="-1" strike="noStrike">
                <a:solidFill>
                  <a:srgbClr val="ffffff"/>
                </a:solidFill>
                <a:latin typeface="Tahoma"/>
              </a:rPr>
              <a:t>ΠΩΣΗ ΥΠΟΘ</a:t>
            </a:r>
            <a:r>
              <a:rPr b="0" lang="el-GR" sz="4400" spc="-1" strike="noStrike">
                <a:solidFill>
                  <a:srgbClr val="ffffff"/>
                </a:solidFill>
                <a:latin typeface="Tahoma"/>
              </a:rPr>
              <a:t>Ε</a:t>
            </a:r>
            <a:r>
              <a:rPr b="0" lang="en-GB" sz="4400" spc="-1" strike="noStrike">
                <a:solidFill>
                  <a:srgbClr val="ffffff"/>
                </a:solidFill>
                <a:latin typeface="Tahoma"/>
              </a:rPr>
              <a:t>ΣΕΩΝ- </a:t>
            </a:r>
            <a:endParaRPr b="0" lang="en-US" sz="4400" spc="-1" strike="noStrike">
              <a:solidFill>
                <a:srgbClr val="ffffff"/>
              </a:solidFill>
              <a:latin typeface="Tahoma"/>
            </a:endParaRPr>
          </a:p>
        </p:txBody>
      </p:sp>
      <p:sp>
        <p:nvSpPr>
          <p:cNvPr id="96" name="PlaceHolder 2"/>
          <p:cNvSpPr>
            <a:spLocks noGrp="1"/>
          </p:cNvSpPr>
          <p:nvPr>
            <p:ph/>
          </p:nvPr>
        </p:nvSpPr>
        <p:spPr>
          <a:xfrm>
            <a:off x="324000" y="1413000"/>
            <a:ext cx="8229600" cy="4114800"/>
          </a:xfrm>
          <a:prstGeom prst="rect">
            <a:avLst/>
          </a:prstGeom>
          <a:noFill/>
          <a:ln w="0">
            <a:noFill/>
          </a:ln>
        </p:spPr>
        <p:txBody>
          <a:bodyPr anchor="t">
            <a:normAutofit fontScale="83000"/>
          </a:bodyPr>
          <a:p>
            <a:pPr marL="284400" indent="-284400" algn="just">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Ξεκινώντας από μια γενική υπόθεση που ο ερευνητής θέλει να ελέγξει και η οποία σχετίζεται άμεσα με το σκοπό της έρευνας στη συνέχεια μπορεί να διατυπώσει και άλλες μικρότερης κλίμακας υποθέσεις στη διαμόρφωση των οποίων θα συμβάλλει η γνώση που απέκτησε ο ερευνητής μέσα από την βιβλιογραφική ανασκόπηση. Η γενική υπόθεση είναι πιο συγκεκριμένη από το σκοπό της έρευνας και οι υπόλοιπες υποθέσεις αποτελούν τμήματα της. Η γενική υπόθεση μπορεί να ειπωθεί ότι είναι μια δήλωση που προκύπτει από κάποια θεωρία και αναφέρεται σε αυτά που μπορεί ο ερευνητής να καταγράψει /ανακαλύψει στην κοινωνική πραγματικότητα εφόσον η θεωρία είναι σωστή.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ΛΕΙΤΟΥΡΓΙΚΟ</a:t>
            </a:r>
            <a:r>
              <a:rPr b="0" lang="el-GR" sz="4400" spc="-1" strike="noStrike">
                <a:solidFill>
                  <a:srgbClr val="ffffff"/>
                </a:solidFill>
                <a:latin typeface="Tahoma"/>
              </a:rPr>
              <a:t>Ι</a:t>
            </a:r>
            <a:r>
              <a:rPr b="0" lang="en-GB" sz="4400" spc="-1" strike="noStrike">
                <a:solidFill>
                  <a:srgbClr val="ffffff"/>
                </a:solidFill>
                <a:latin typeface="Tahoma"/>
              </a:rPr>
              <a:t> ΟΡΙΣΜΟ</a:t>
            </a:r>
            <a:r>
              <a:rPr b="0" lang="el-GR" sz="4400" spc="-1" strike="noStrike">
                <a:solidFill>
                  <a:srgbClr val="ffffff"/>
                </a:solidFill>
                <a:latin typeface="Tahoma"/>
              </a:rPr>
              <a:t>Ι</a:t>
            </a:r>
            <a:r>
              <a:rPr b="0" lang="en-GB"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Καθώς ο σκοπός του ερευνητή είναι ο έλεγχος συγκεκριμένων θεωρητικών υποθέσεων για το θέμα που διερευνά μέσα από τη συλλογή εμπειρικών στοιχείων, οι θεωρητικές έννοιες πρέπει να αντιστοιχούν σε λειτουργικούς ορισμούς, δηλαδή ορισμούς με αναφορά σε παρατηρήσιμες πτυχές της θεωρητικής έννοιας . Εάν για παράδειγμα, μελετήσουμε το θέμα της βίας, ο ερευνητής πρέπει να συγκεκριμενοποιήσει στο τι θεωρεί ως βία ώστε στη συνέχεια ο ερωτώμενος να έχει κατανοήσει πλήρως σε τι πρέπει να απαντήσει.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531720"/>
            <a:ext cx="8229600" cy="19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rPr>
              <a:t>ΜΕΤΑΒΛΗΤ</a:t>
            </a:r>
            <a:r>
              <a:rPr b="0" lang="el-GR" sz="4400" spc="-1" strike="noStrike">
                <a:solidFill>
                  <a:srgbClr val="ffffff"/>
                </a:solidFill>
                <a:latin typeface="Tahoma"/>
              </a:rPr>
              <a:t>Ε</a:t>
            </a:r>
            <a:r>
              <a:rPr b="0" lang="en-GB" sz="4400" spc="-1" strike="noStrike">
                <a:solidFill>
                  <a:srgbClr val="ffffff"/>
                </a:solidFill>
                <a:latin typeface="Tahoma"/>
              </a:rPr>
              <a:t>Σ</a:t>
            </a:r>
            <a:r>
              <a:rPr b="0" lang="el-GR"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468360" y="1052640"/>
            <a:ext cx="8229600" cy="4114800"/>
          </a:xfrm>
          <a:prstGeom prst="rect">
            <a:avLst/>
          </a:prstGeom>
          <a:noFill/>
          <a:ln w="0">
            <a:noFill/>
          </a:ln>
        </p:spPr>
        <p:txBody>
          <a:bodyPr anchor="t">
            <a:normAutofit fontScale="84000"/>
          </a:bodyPr>
          <a:p>
            <a:pPr marL="288000" indent="-288000" algn="just">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ahoma"/>
              </a:rPr>
              <a:t>Ορίζουμε ως μεταβλητές ορισμένα χαρακτηριστικά που χωρίζονται σε περισσότερες από μια κατηγορίες (για παράδειγμα, η  μεταβλητή φύλο, χωρίζεται σε δύο κατηγορίες, άνδρας-γυναίκα ενώ η μεταβλητή ηλικία σε περισσότερες κατηγορίες ανάλογα με τον τρόπο που θα τις ορίσουμε). Η συνέπεια, το αποτέλεσμα ονομάζεται </a:t>
            </a:r>
            <a:r>
              <a:rPr b="0" i="1" lang="el-GR" sz="2800" spc="-1" strike="noStrike">
                <a:solidFill>
                  <a:srgbClr val="ffffff"/>
                </a:solidFill>
                <a:latin typeface="Tahoma"/>
              </a:rPr>
              <a:t>εξαρτημένη μεταβλητή</a:t>
            </a:r>
            <a:r>
              <a:rPr b="0" lang="el-GR" sz="2800" spc="-1" strike="noStrike">
                <a:solidFill>
                  <a:srgbClr val="ffffff"/>
                </a:solidFill>
                <a:latin typeface="Tahoma"/>
              </a:rPr>
              <a:t> καθώς εξαρτάται από κάτι άλλο, ενώ η αιτία ονομάζεται </a:t>
            </a:r>
            <a:r>
              <a:rPr b="0" i="1" lang="el-GR" sz="2800" spc="-1" strike="noStrike">
                <a:solidFill>
                  <a:srgbClr val="ffffff"/>
                </a:solidFill>
                <a:latin typeface="Tahoma"/>
              </a:rPr>
              <a:t>ανεξάρτητη μεταβλητή.</a:t>
            </a:r>
            <a:r>
              <a:rPr b="0" lang="el-GR" sz="2800" spc="-1" strike="noStrike">
                <a:solidFill>
                  <a:srgbClr val="ffffff"/>
                </a:solidFill>
                <a:latin typeface="Tahoma"/>
              </a:rPr>
              <a:t> Εάν για παράδειγμα θέλουμε να μελετήσουμε εάν το εκπαιδευτικό επίπεδο επηρεάζει το εισόδημα, το εισόδημα θα είναι η εξαρτημένη μεταβλητή και το εκπαιδευτικό επίπεδο η ανεξάρτητη.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6:45:49Z</dcterms:created>
  <dc:creator>.</dc:creator>
  <dc:description/>
  <dc:language>en-US</dc:language>
  <cp:lastModifiedBy>Δημήτρης Παπαδόπουλος</cp:lastModifiedBy>
  <dcterms:modified xsi:type="dcterms:W3CDTF">2012-11-13T16:57:48Z</dcterms:modified>
  <cp:revision>2</cp:revision>
  <dc:subject/>
  <dc:title>ΠΟΣΟΤΙΚΗ ΕΡΕΥΝ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